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9C5-8B75-4B9A-9120-993ED110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473-FA91-4910-A6E3-8EB0EA44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B5E79-EEA0-4360-9E4E-99D685B8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2CF7B-CD69-441B-8D99-2E62EFB9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252D1-D69F-4CFC-B114-86B4B25F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A4319-C0D8-4ACD-82E7-5678DE4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43FC5-E179-4E32-BCE3-52FEEE55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E3BAA-CF39-4DA9-9023-116278EA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24656-488B-4D77-8B7D-75EE42EA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25948-518B-4FCA-A443-05D0C861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1557F-83B3-4092-83F5-57B59C12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73B14-710B-43EE-A545-0A108080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44E-855C-4380-9B52-55BB0DAE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E01F3-00AB-4530-AD3E-8703FA5B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5C8EB-EDC1-4AD4-8EA3-3A7ABC2A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150CE-2DD0-4403-8E49-8FC979BD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9D8B7-5BEC-4C74-9D54-70710062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6D100-6851-400F-9328-56DC07F0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CF92D-9C81-4393-BF86-4EC6AF91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27709-AECA-4F16-AA89-9A46284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FE51B-D995-4194-8573-72258ACC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819B1-A8D9-4E5E-AD75-82378EC3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59C95-E1EC-471A-AD77-2510AE43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1F1-5B05-449A-8BDB-3F926846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AB78D-F593-4E29-A3C8-5ADD3161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FDF21-9058-4F9F-A757-2F710252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DCCFB-A9B7-4808-81D5-A7EA15C4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8E175-1F66-4530-A02C-C617E726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F953E-C8A6-4AB9-89BF-31E35134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EC7C6-EE4C-47F0-AFC6-74CBC3FF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2BAF8-2E0A-4027-8907-058D2708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717A2-3FA5-473D-AD7D-98A96157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222A9-3ED2-452B-90E3-09CCA70F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7012E-1F9D-48FD-A4CF-D0A62018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CB46-25ED-42C3-9E9E-1E9496DB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40DB0-2390-490A-93E9-A27A0ABE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FE03F-A19A-40EC-87B7-CFD38BC0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0FB54-23AF-45B7-B16D-117004D9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DCACC-0389-4408-BE56-CBBA60F2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3A1E1-6283-4B9D-8A2B-2E4B8A43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FB138-153F-4D44-B83C-066E7EC9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E374F-F6A2-4020-BFCA-CDE7D87C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DDBB9-AE01-46AA-AAE7-8EC38638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0149E-9808-4A08-92AD-A628281B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36C1B-19B1-4EF7-9F7A-FD7F261B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0C2B-B96B-4CCE-9FD5-765264A0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A8137-3B16-40D0-9B2A-BAF372B2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B015D-918F-496F-B8C5-D80AC078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855BB-F3F2-4CDA-8431-01FDEF0C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F62D0-6371-4E6D-A679-B104B913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567C4-99E9-441E-B6C4-4DDD87B1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6F35-8199-48D0-878B-F80F27C6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6176-A889-4D5E-AB9F-A254C315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DD00-AB0C-4FC3-8B48-AE4FAEE7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18E1-05EF-4842-973B-6087931B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32F3-8570-458D-8B46-A03B378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BBF-FF0C-4A47-9781-EFE5DC83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36C3-D640-43A5-A99B-3ED97F2D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D546-4018-456B-964F-987EB3BA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E94D-7A1B-4958-B01B-CA65F4DC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E5F0-0F47-4F81-B25A-1B94105D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84B6-E6D6-4C39-9359-DA430A7E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3E7AB-ACB8-4F12-97AC-6F08637F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2818E-E6C0-4E00-872F-0C98D8D1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4FA61-8213-41B9-AB63-606E023E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E8178-C6FB-47C2-B196-F01F460F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91C98-04EB-4184-8E75-DB6C310A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8D2-1560-4910-97D0-FABEA7EE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940A-E57F-4D75-A7F7-1F6CDEFB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4FFF-F660-46D2-BDE7-8757B9E4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CEA9-F843-4219-A71A-1490932A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8C846-486D-444A-A26C-7310D513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A7DB-E86B-45E6-8F20-556A6CE8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0A5E6-42F3-45DA-9560-2D125C35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6D5F-94D1-4B8F-B306-3A1F181C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2D776-6DB3-4E39-9C4F-910F06F0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80425-390C-4040-972B-D24EC4FD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877D2-585B-49AC-AB3C-5AAACDD6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775-F8BE-4780-A575-4750775A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FCA5A-DBA8-4FC7-9200-D2ADB6CD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4FBAE-6591-4D9C-A210-D45AC427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5272D-B903-4A2F-8939-B61ED537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5BCA-FF76-4A9B-B12B-BB0DF70D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6D62F-EC48-4BE7-8581-23DD89A1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F937A-1CD4-4770-94CE-89B9895B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55A7A-152D-4623-B3BB-AD6D18F1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2454-4EA8-41EA-87F2-8BB41374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8E57-2E0E-437A-B8F1-FC166CDE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60395-8978-48E1-846C-05F4F8E5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454-00CB-4DFA-B7F6-706B0D36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2B1E2-074E-470F-97FF-B6D8F9B1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1F422-6A39-41A9-A1C2-AF050B34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B155A-A17B-4154-B546-F6B771F4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7E29C-7FF8-47CE-A388-BD441F1A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FA8F6-7963-44E8-BA1C-14CB59B9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E4FEB-2D6E-4924-8BEF-6E5D8955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DCA5A-57F6-42A8-9D9B-C4C0D943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E83E0-6E72-44AE-AADA-71955F2D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949C7-BF2D-4421-898A-8A982AC1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4A394-A9F1-4EC1-873E-0D0B0A27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02B-3D87-4FB9-B6FB-B6194109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DC720-9E22-4B7B-A5EF-18213EF0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40578-7975-4875-BF4C-451B3372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DB657-A14D-4D51-BF39-46398F0F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BF19-FCFE-4EDC-B1E5-0B52DFD6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681B-4986-474F-B551-30DD08E1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F601E-7497-4799-B93B-232BC921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65DD7-AECB-4E4A-BE19-8DCB9092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92168-51AB-4E1A-903A-563371BB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AF24D-954D-4836-8E62-D1B11F6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3CF3B-08B5-4D4F-B9BA-562229B5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18A-10C2-46DD-AB2B-F1DC6E6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E6D45-BB67-4A9A-916B-1307FF17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7E191-D5D4-436C-9450-DD3EFDBD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F3646-1272-4480-9201-85EF54C4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6C0FC-4CF3-4FB6-8402-271998FB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FF4E2-2833-42B5-8D87-8C3CDCE2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BA24A-6C6E-466C-8788-3B8688B5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3AC1A-6EDC-46CF-A3D3-12EE34D9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BCA8E-5618-477A-943C-F6CCAE75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3242E-99E9-4E28-996F-F6634216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11FBB-C811-47E8-B7CA-2C1F4889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2ED-8FFE-4B08-A766-43AC99F7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74FD5-8C8B-4990-BAD1-33DB93B7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82128-3928-4676-8D22-5C05E0EA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5FBDD-03C5-4B5F-9FEB-B9A02B04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84B87-D03F-4B51-90F2-0A2A2B1B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6A829-DD05-4FDA-AC9C-226BB946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A363B-7B8C-4DCB-A0BF-A11E8D41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560B5-DB0A-4C7D-B3C1-DF4C671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8B4DF-CF39-4685-A3E5-A346F384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6B89-FECC-4EB1-822C-02B07407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34982-AEA7-47B7-B5D3-B024B646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089-833A-4123-A063-A61A76B9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D01AE-A06E-47B2-86AE-CDF540CC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6A830-23FC-45A8-AA6E-5FAEE7E7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E8EEF-8678-4325-8E48-EAD7AB3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3BDA7-5B22-4941-8BE4-ED99B047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86CD3-D44E-424A-BA7E-82D3DD1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FDD45-423C-4AE6-83CF-E35F963A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C9578-6C27-4317-B469-40C42E0E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C56D2-609B-46EF-84B5-A69AFE32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7C39B-CA0B-421B-AC51-844F416A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0A40E-8F6A-4A8F-A638-2E8B0594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9A79-9A43-4E91-ACD0-03D8F20BAE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7E50-AE2F-4780-AFE8-66BDF9CC85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86A1-CF78-4506-8F64-830821E909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E917-EECD-436F-A22C-5EA1BACDDAF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C2E2-DA3B-4F83-A93F-B82A55CEE4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8B3C-0AF7-4357-8EA2-DF63C3BEC57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ED0-B3A9-43E8-B34A-69EBBDB2AB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AA0F-5923-4397-A138-D839C62E43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8F83-6BD9-46B1-B913-B8B72226CC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A4BA-512C-42BE-99EA-7A16C04534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F955-9DAE-4A01-8B26-8F780FDFDB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820B-549F-4DEF-A578-5EC0400AB8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354 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úmrak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rný pad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úmrak v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rný pad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bl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 sa tmavá n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j vt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t spev t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chne v dia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 velebí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u m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 velebí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u m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 velebí Bo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u 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j kvietky zvl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né ros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vorcovi vzdáva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ako v modlitbe tich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si hlav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y skl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jú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i hlav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y skl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jú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si hlav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ky skl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Les šumí, akoby vzýval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to meno tak vzneše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potok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lnkotom vzdá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Pánovi nadšen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Pánovi nadšene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Pánovi nadšene.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k všetko velebí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lovek by rob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mal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Má v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ne k nemu sa blí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a spiev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mu piesne chv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a spiev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mu piesne chv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,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a spieva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mu piesne chvá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1T13:21:02Z</dcterms:modified>
  <cp:revision>23</cp:revision>
  <dc:subject/>
  <dc:title>Je veľký náš Pán, on slávy je Kráľ Nech do všetkých strán  spev vrúcnych znie chvál.</dc:title>
</cp:coreProperties>
</file>